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DA13-F2F3-4F79-BCF6-C4CC1B71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E65-CA73-4D09-ABE4-BAAFAFC3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EBF-652A-4E7F-8F3A-3DB73BCD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797-8DAA-4B39-848C-8040D74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C86-4AB7-4FDF-875E-ED82F280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73D-A8E3-4CEF-9CAA-33C028E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742-4D21-4ABC-864F-2D9EB03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0CA-2965-403C-886D-D37DAE8F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0FC-C7F4-441B-82DA-CFD87154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B22-4229-413B-A36F-C95A026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D8C-6708-4CAA-B5AB-E28647B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F34-FFDE-43D4-963D-2AFFD2D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E03-6298-420F-8E98-5C96540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1C8-CE8D-4A34-A164-C29079D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805-664D-4BE7-8D18-794BB937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7796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рмаколо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  <a:ea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ЛОУПОТРЕБ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КО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АВИСНОСТ ОД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еста недеља на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5410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рмакодинам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прес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љи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атив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хиби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ол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хани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з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уфор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сао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торичк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икас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3699000"/>
        </p:xfrm>
        <a:graphic>
          <a:graphicData uri="http://schemas.openxmlformats.org/drawingml/2006/table">
            <a:tbl>
              <a:tblPr/>
              <a:tblGrid>
                <a:gridCol w="1676520"/>
                <a:gridCol w="6553080"/>
              </a:tblGrid>
              <a:tr h="39888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фек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ишење расположења. Блага мишићна реалксациј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лаксациј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пло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вишено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ктивно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љењ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н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шићн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ординациј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лаксација и топлота. Повишено реактивно време. Слабљење фине мишићне координациј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ћи поремећај моторичке и менталне контрол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збиљна интоксикација. Веома мала контрола од стране ЦНС-а или тел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свесно стање. Дубока кома. Смрт због респираторне депресиј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еном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ниже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лонгира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лаг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сихоактив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еђе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мен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нош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новљ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нач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аж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рминан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рав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зи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ск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и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агностич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охол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C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SM-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пресор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т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спонира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охолиз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кохол као “наград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"Reinforcer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супстанца чији фармаколошки ефекти терају корисника да настави са узима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зитивни ефекти награ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 задовољ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ућење (поремећај) све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обравање од стране околине (са сличним навика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гативни ефекти наград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лобађање од стреса и негативних емо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лобађање од симптома апстинен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inforcer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зокортиколимбичк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кохол као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infor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: док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м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фере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лекциониса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ођењ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мбичк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уктур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уротрансми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мал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дминистр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нира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министр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уротрансмитерск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ил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золимбичк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честал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ка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учиц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кранијалн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њекци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гра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7"/>
          <p:cNvSpPr/>
          <p:nvPr/>
        </p:nvSpPr>
        <p:spPr>
          <a:xfrm>
            <a:off x="987120" y="2625840"/>
            <a:ext cx="1067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kepha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ib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9"/>
          <p:cNvSpPr/>
          <p:nvPr/>
        </p:nvSpPr>
        <p:spPr>
          <a:xfrm>
            <a:off x="3809880" y="3287880"/>
            <a:ext cx="506520" cy="569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0"/>
          <p:cNvSpPr/>
          <p:nvPr/>
        </p:nvSpPr>
        <p:spPr>
          <a:xfrm>
            <a:off x="4317840" y="3565440"/>
            <a:ext cx="140652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1"/>
          <p:cNvSpPr/>
          <p:nvPr/>
        </p:nvSpPr>
        <p:spPr>
          <a:xfrm rot="16200000">
            <a:off x="5575320" y="3419280"/>
            <a:ext cx="504720" cy="27648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2"/>
          <p:cNvSpPr/>
          <p:nvPr/>
        </p:nvSpPr>
        <p:spPr>
          <a:xfrm>
            <a:off x="6634080" y="3332160"/>
            <a:ext cx="506520" cy="57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3"/>
          <p:cNvSpPr/>
          <p:nvPr/>
        </p:nvSpPr>
        <p:spPr>
          <a:xfrm>
            <a:off x="7205760" y="3602160"/>
            <a:ext cx="563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4"/>
          <p:cNvSpPr/>
          <p:nvPr/>
        </p:nvSpPr>
        <p:spPr>
          <a:xfrm>
            <a:off x="7778160" y="342900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5"/>
          <p:cNvSpPr/>
          <p:nvPr/>
        </p:nvSpPr>
        <p:spPr>
          <a:xfrm rot="17700000">
            <a:off x="4235400" y="4044960"/>
            <a:ext cx="374400" cy="33372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6"/>
          <p:cNvSpPr/>
          <p:nvPr/>
        </p:nvSpPr>
        <p:spPr>
          <a:xfrm>
            <a:off x="4506840" y="4440240"/>
            <a:ext cx="109440" cy="1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7"/>
          <p:cNvSpPr/>
          <p:nvPr/>
        </p:nvSpPr>
        <p:spPr>
          <a:xfrm>
            <a:off x="4616280" y="4635360"/>
            <a:ext cx="2735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8"/>
          <p:cNvSpPr/>
          <p:nvPr/>
        </p:nvSpPr>
        <p:spPr>
          <a:xfrm flipH="1" flipV="1">
            <a:off x="7337160" y="4173120"/>
            <a:ext cx="3240" cy="460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9"/>
          <p:cNvSpPr/>
          <p:nvPr/>
        </p:nvSpPr>
        <p:spPr>
          <a:xfrm flipH="1" flipV="1">
            <a:off x="7042320" y="3833280"/>
            <a:ext cx="295200" cy="349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0"/>
          <p:cNvSpPr/>
          <p:nvPr/>
        </p:nvSpPr>
        <p:spPr>
          <a:xfrm rot="20640000">
            <a:off x="3541680" y="4024440"/>
            <a:ext cx="333360" cy="37440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1"/>
          <p:cNvSpPr/>
          <p:nvPr/>
        </p:nvSpPr>
        <p:spPr>
          <a:xfrm flipH="1">
            <a:off x="3239640" y="4410000"/>
            <a:ext cx="360360" cy="39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2"/>
          <p:cNvSpPr/>
          <p:nvPr/>
        </p:nvSpPr>
        <p:spPr>
          <a:xfrm flipH="1">
            <a:off x="2432160" y="4808520"/>
            <a:ext cx="820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3"/>
          <p:cNvSpPr/>
          <p:nvPr/>
        </p:nvSpPr>
        <p:spPr>
          <a:xfrm>
            <a:off x="1938240" y="4444920"/>
            <a:ext cx="507960" cy="569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4"/>
          <p:cNvSpPr/>
          <p:nvPr/>
        </p:nvSpPr>
        <p:spPr>
          <a:xfrm rot="2700000">
            <a:off x="3216240" y="3349440"/>
            <a:ext cx="374760" cy="333360"/>
          </a:xfrm>
          <a:prstGeom prst="rtTriangl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5"/>
          <p:cNvSpPr/>
          <p:nvPr/>
        </p:nvSpPr>
        <p:spPr>
          <a:xfrm flipH="1" flipV="1">
            <a:off x="2500200" y="2738520"/>
            <a:ext cx="682560" cy="7682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6"/>
          <p:cNvSpPr/>
          <p:nvPr/>
        </p:nvSpPr>
        <p:spPr>
          <a:xfrm>
            <a:off x="2222640" y="2370240"/>
            <a:ext cx="360360" cy="406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7"/>
          <p:cNvSpPr/>
          <p:nvPr/>
        </p:nvSpPr>
        <p:spPr>
          <a:xfrm rot="5940000">
            <a:off x="3679200" y="2736000"/>
            <a:ext cx="374400" cy="331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8"/>
          <p:cNvSpPr/>
          <p:nvPr/>
        </p:nvSpPr>
        <p:spPr>
          <a:xfrm flipH="1" flipV="1">
            <a:off x="3394080" y="1881360"/>
            <a:ext cx="342720" cy="84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9"/>
          <p:cNvSpPr/>
          <p:nvPr/>
        </p:nvSpPr>
        <p:spPr>
          <a:xfrm>
            <a:off x="1413000" y="3273480"/>
            <a:ext cx="365040" cy="4428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0"/>
          <p:cNvSpPr/>
          <p:nvPr/>
        </p:nvSpPr>
        <p:spPr>
          <a:xfrm>
            <a:off x="1677960" y="3689280"/>
            <a:ext cx="179280" cy="3031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1"/>
          <p:cNvSpPr/>
          <p:nvPr/>
        </p:nvSpPr>
        <p:spPr>
          <a:xfrm rot="6540000">
            <a:off x="1791000" y="4007520"/>
            <a:ext cx="237960" cy="210960"/>
          </a:xfrm>
          <a:prstGeom prst="rtTriangl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2"/>
          <p:cNvSpPr/>
          <p:nvPr/>
        </p:nvSpPr>
        <p:spPr>
          <a:xfrm>
            <a:off x="1774800" y="4227480"/>
            <a:ext cx="12384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3"/>
          <p:cNvSpPr/>
          <p:nvPr/>
        </p:nvSpPr>
        <p:spPr>
          <a:xfrm>
            <a:off x="2006640" y="4073400"/>
            <a:ext cx="12204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4"/>
          <p:cNvSpPr/>
          <p:nvPr/>
        </p:nvSpPr>
        <p:spPr>
          <a:xfrm>
            <a:off x="1631880" y="4432320"/>
            <a:ext cx="12240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65"/>
          <p:cNvSpPr/>
          <p:nvPr/>
        </p:nvSpPr>
        <p:spPr>
          <a:xfrm>
            <a:off x="2274840" y="4089240"/>
            <a:ext cx="12240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66"/>
          <p:cNvSpPr/>
          <p:nvPr/>
        </p:nvSpPr>
        <p:spPr>
          <a:xfrm>
            <a:off x="3473280" y="3327480"/>
            <a:ext cx="122400" cy="137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7"/>
          <p:cNvSpPr/>
          <p:nvPr/>
        </p:nvSpPr>
        <p:spPr>
          <a:xfrm>
            <a:off x="3449520" y="3549600"/>
            <a:ext cx="12384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68"/>
          <p:cNvSpPr/>
          <p:nvPr/>
        </p:nvSpPr>
        <p:spPr>
          <a:xfrm>
            <a:off x="3855960" y="4648320"/>
            <a:ext cx="123840" cy="137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69"/>
          <p:cNvSpPr/>
          <p:nvPr/>
        </p:nvSpPr>
        <p:spPr>
          <a:xfrm>
            <a:off x="4097160" y="4595760"/>
            <a:ext cx="123840" cy="138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0"/>
          <p:cNvSpPr/>
          <p:nvPr/>
        </p:nvSpPr>
        <p:spPr>
          <a:xfrm>
            <a:off x="3803760" y="3013200"/>
            <a:ext cx="6804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1"/>
          <p:cNvSpPr/>
          <p:nvPr/>
        </p:nvSpPr>
        <p:spPr>
          <a:xfrm>
            <a:off x="3908520" y="2914560"/>
            <a:ext cx="6984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2"/>
          <p:cNvSpPr/>
          <p:nvPr/>
        </p:nvSpPr>
        <p:spPr>
          <a:xfrm>
            <a:off x="3790800" y="4086360"/>
            <a:ext cx="68400" cy="75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73"/>
          <p:cNvSpPr/>
          <p:nvPr/>
        </p:nvSpPr>
        <p:spPr>
          <a:xfrm>
            <a:off x="4146480" y="4138560"/>
            <a:ext cx="68400" cy="763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4"/>
          <p:cNvSpPr/>
          <p:nvPr/>
        </p:nvSpPr>
        <p:spPr>
          <a:xfrm>
            <a:off x="4281480" y="4105440"/>
            <a:ext cx="68400" cy="75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5"/>
          <p:cNvSpPr/>
          <p:nvPr/>
        </p:nvSpPr>
        <p:spPr>
          <a:xfrm>
            <a:off x="4400640" y="3990960"/>
            <a:ext cx="69840" cy="763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76"/>
          <p:cNvSpPr/>
          <p:nvPr/>
        </p:nvSpPr>
        <p:spPr>
          <a:xfrm>
            <a:off x="4535640" y="3975120"/>
            <a:ext cx="68040" cy="763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7"/>
          <p:cNvSpPr/>
          <p:nvPr/>
        </p:nvSpPr>
        <p:spPr>
          <a:xfrm>
            <a:off x="6089760" y="3363840"/>
            <a:ext cx="122040" cy="138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8"/>
          <p:cNvSpPr/>
          <p:nvPr/>
        </p:nvSpPr>
        <p:spPr>
          <a:xfrm>
            <a:off x="6046920" y="3616200"/>
            <a:ext cx="122040" cy="138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79"/>
          <p:cNvSpPr/>
          <p:nvPr/>
        </p:nvSpPr>
        <p:spPr>
          <a:xfrm>
            <a:off x="6181560" y="3803760"/>
            <a:ext cx="123840" cy="137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80"/>
          <p:cNvSpPr/>
          <p:nvPr/>
        </p:nvSpPr>
        <p:spPr>
          <a:xfrm>
            <a:off x="6375240" y="3970440"/>
            <a:ext cx="122400" cy="137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81"/>
          <p:cNvSpPr/>
          <p:nvPr/>
        </p:nvSpPr>
        <p:spPr>
          <a:xfrm>
            <a:off x="6313320" y="3265560"/>
            <a:ext cx="122400" cy="137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2"/>
          <p:cNvSpPr/>
          <p:nvPr/>
        </p:nvSpPr>
        <p:spPr>
          <a:xfrm>
            <a:off x="6419880" y="3452760"/>
            <a:ext cx="123840" cy="138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83"/>
          <p:cNvSpPr/>
          <p:nvPr/>
        </p:nvSpPr>
        <p:spPr>
          <a:xfrm>
            <a:off x="6608880" y="3886200"/>
            <a:ext cx="122040" cy="138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4"/>
          <p:cNvSpPr/>
          <p:nvPr/>
        </p:nvSpPr>
        <p:spPr>
          <a:xfrm>
            <a:off x="3636000" y="1440000"/>
            <a:ext cx="1419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tam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tator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5"/>
          <p:cNvSpPr/>
          <p:nvPr/>
        </p:nvSpPr>
        <p:spPr>
          <a:xfrm>
            <a:off x="1510560" y="1709640"/>
            <a:ext cx="1544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kephali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orp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ibitory 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6"/>
          <p:cNvSpPr/>
          <p:nvPr/>
        </p:nvSpPr>
        <p:spPr>
          <a:xfrm>
            <a:off x="1737720" y="5100480"/>
            <a:ext cx="910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ib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7"/>
          <p:cNvSpPr/>
          <p:nvPr/>
        </p:nvSpPr>
        <p:spPr>
          <a:xfrm>
            <a:off x="4644720" y="4684680"/>
            <a:ext cx="2440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BA Inhibitory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8"/>
          <p:cNvSpPr/>
          <p:nvPr/>
        </p:nvSpPr>
        <p:spPr>
          <a:xfrm>
            <a:off x="4118760" y="2797200"/>
            <a:ext cx="1957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Arial"/>
              </a:rPr>
              <a:t>Допамински неур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9"/>
          <p:cNvSpPr/>
          <p:nvPr/>
        </p:nvSpPr>
        <p:spPr>
          <a:xfrm flipH="1">
            <a:off x="4667040" y="3033720"/>
            <a:ext cx="39996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0"/>
          <p:cNvSpPr/>
          <p:nvPr/>
        </p:nvSpPr>
        <p:spPr>
          <a:xfrm>
            <a:off x="6872040" y="2846520"/>
            <a:ext cx="7704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неур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1"/>
          <p:cNvSpPr/>
          <p:nvPr/>
        </p:nvSpPr>
        <p:spPr>
          <a:xfrm flipH="1">
            <a:off x="1709640" y="6176880"/>
            <a:ext cx="55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2"/>
          <p:cNvSpPr/>
          <p:nvPr/>
        </p:nvSpPr>
        <p:spPr>
          <a:xfrm>
            <a:off x="1709640" y="604188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3"/>
          <p:cNvSpPr/>
          <p:nvPr/>
        </p:nvSpPr>
        <p:spPr>
          <a:xfrm>
            <a:off x="4444920" y="604368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4"/>
          <p:cNvSpPr/>
          <p:nvPr/>
        </p:nvSpPr>
        <p:spPr>
          <a:xfrm>
            <a:off x="2040840" y="6000840"/>
            <a:ext cx="2068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tral Tegment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5"/>
          <p:cNvSpPr/>
          <p:nvPr/>
        </p:nvSpPr>
        <p:spPr>
          <a:xfrm flipH="1" flipV="1">
            <a:off x="3908520" y="6159240"/>
            <a:ext cx="506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6"/>
          <p:cNvSpPr/>
          <p:nvPr/>
        </p:nvSpPr>
        <p:spPr>
          <a:xfrm flipH="1">
            <a:off x="4695480" y="6176880"/>
            <a:ext cx="771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7"/>
          <p:cNvSpPr/>
          <p:nvPr/>
        </p:nvSpPr>
        <p:spPr>
          <a:xfrm>
            <a:off x="4695840" y="604368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8"/>
          <p:cNvSpPr/>
          <p:nvPr/>
        </p:nvSpPr>
        <p:spPr>
          <a:xfrm>
            <a:off x="7831080" y="602928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9"/>
          <p:cNvSpPr/>
          <p:nvPr/>
        </p:nvSpPr>
        <p:spPr>
          <a:xfrm>
            <a:off x="5362920" y="6002280"/>
            <a:ext cx="181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eus Accumb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0"/>
          <p:cNvSpPr/>
          <p:nvPr/>
        </p:nvSpPr>
        <p:spPr>
          <a:xfrm flipH="1" flipV="1">
            <a:off x="6997320" y="6159240"/>
            <a:ext cx="819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1"/>
          <p:cNvSpPr/>
          <p:nvPr/>
        </p:nvSpPr>
        <p:spPr>
          <a:xfrm flipH="1" flipV="1">
            <a:off x="6560640" y="3354480"/>
            <a:ext cx="11916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2"/>
          <p:cNvSpPr/>
          <p:nvPr/>
        </p:nvSpPr>
        <p:spPr>
          <a:xfrm>
            <a:off x="6545160" y="3259080"/>
            <a:ext cx="334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3"/>
          <p:cNvSpPr/>
          <p:nvPr/>
        </p:nvSpPr>
        <p:spPr>
          <a:xfrm flipH="1">
            <a:off x="6485040" y="3363840"/>
            <a:ext cx="856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4"/>
          <p:cNvSpPr/>
          <p:nvPr/>
        </p:nvSpPr>
        <p:spPr>
          <a:xfrm flipH="1">
            <a:off x="6494040" y="3649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5"/>
          <p:cNvSpPr/>
          <p:nvPr/>
        </p:nvSpPr>
        <p:spPr>
          <a:xfrm flipH="1" flipV="1">
            <a:off x="6400800" y="3582720"/>
            <a:ext cx="9360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6"/>
          <p:cNvSpPr/>
          <p:nvPr/>
        </p:nvSpPr>
        <p:spPr>
          <a:xfrm flipH="1">
            <a:off x="6418080" y="3649680"/>
            <a:ext cx="8388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7"/>
          <p:cNvSpPr/>
          <p:nvPr/>
        </p:nvSpPr>
        <p:spPr>
          <a:xfrm flipH="1">
            <a:off x="6560640" y="3782880"/>
            <a:ext cx="10188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8"/>
          <p:cNvSpPr/>
          <p:nvPr/>
        </p:nvSpPr>
        <p:spPr>
          <a:xfrm>
            <a:off x="6570720" y="38592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9"/>
          <p:cNvSpPr/>
          <p:nvPr/>
        </p:nvSpPr>
        <p:spPr>
          <a:xfrm flipH="1" flipV="1">
            <a:off x="6459120" y="3830400"/>
            <a:ext cx="11124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0"/>
          <p:cNvSpPr/>
          <p:nvPr/>
        </p:nvSpPr>
        <p:spPr>
          <a:xfrm>
            <a:off x="1969920" y="4427640"/>
            <a:ext cx="446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11"/>
          <p:cNvSpPr/>
          <p:nvPr/>
        </p:nvSpPr>
        <p:spPr>
          <a:xfrm>
            <a:off x="2133720" y="4332240"/>
            <a:ext cx="172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2"/>
          <p:cNvSpPr/>
          <p:nvPr/>
        </p:nvSpPr>
        <p:spPr>
          <a:xfrm flipH="1" flipV="1">
            <a:off x="4012920" y="3056040"/>
            <a:ext cx="140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13"/>
          <p:cNvSpPr/>
          <p:nvPr/>
        </p:nvSpPr>
        <p:spPr>
          <a:xfrm flipH="1" flipV="1">
            <a:off x="4122720" y="3017880"/>
            <a:ext cx="144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14"/>
          <p:cNvSpPr/>
          <p:nvPr/>
        </p:nvSpPr>
        <p:spPr>
          <a:xfrm flipH="1" flipV="1">
            <a:off x="3691080" y="3443400"/>
            <a:ext cx="118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5"/>
          <p:cNvSpPr/>
          <p:nvPr/>
        </p:nvSpPr>
        <p:spPr>
          <a:xfrm flipH="1">
            <a:off x="3686040" y="3633840"/>
            <a:ext cx="1238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16"/>
          <p:cNvSpPr/>
          <p:nvPr/>
        </p:nvSpPr>
        <p:spPr>
          <a:xfrm flipH="1">
            <a:off x="4193640" y="4357800"/>
            <a:ext cx="954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7"/>
          <p:cNvSpPr/>
          <p:nvPr/>
        </p:nvSpPr>
        <p:spPr>
          <a:xfrm flipH="1">
            <a:off x="4340160" y="4408560"/>
            <a:ext cx="460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8"/>
          <p:cNvSpPr/>
          <p:nvPr/>
        </p:nvSpPr>
        <p:spPr>
          <a:xfrm>
            <a:off x="4137120" y="3849840"/>
            <a:ext cx="3492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9"/>
          <p:cNvSpPr/>
          <p:nvPr/>
        </p:nvSpPr>
        <p:spPr>
          <a:xfrm>
            <a:off x="4238640" y="3780000"/>
            <a:ext cx="856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0"/>
          <p:cNvSpPr/>
          <p:nvPr/>
        </p:nvSpPr>
        <p:spPr>
          <a:xfrm flipV="1">
            <a:off x="4114800" y="3963960"/>
            <a:ext cx="954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1"/>
          <p:cNvSpPr/>
          <p:nvPr/>
        </p:nvSpPr>
        <p:spPr>
          <a:xfrm>
            <a:off x="4121280" y="3989520"/>
            <a:ext cx="4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2"/>
          <p:cNvSpPr/>
          <p:nvPr/>
        </p:nvSpPr>
        <p:spPr>
          <a:xfrm>
            <a:off x="4216320" y="3957480"/>
            <a:ext cx="33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3"/>
          <p:cNvSpPr/>
          <p:nvPr/>
        </p:nvSpPr>
        <p:spPr>
          <a:xfrm flipV="1">
            <a:off x="4278240" y="3862440"/>
            <a:ext cx="96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4"/>
          <p:cNvSpPr/>
          <p:nvPr/>
        </p:nvSpPr>
        <p:spPr>
          <a:xfrm>
            <a:off x="4278240" y="3932280"/>
            <a:ext cx="288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5"/>
          <p:cNvSpPr/>
          <p:nvPr/>
        </p:nvSpPr>
        <p:spPr>
          <a:xfrm>
            <a:off x="4379760" y="3868560"/>
            <a:ext cx="3996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6"/>
          <p:cNvSpPr/>
          <p:nvPr/>
        </p:nvSpPr>
        <p:spPr>
          <a:xfrm>
            <a:off x="3668760" y="4421160"/>
            <a:ext cx="396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7"/>
          <p:cNvSpPr/>
          <p:nvPr/>
        </p:nvSpPr>
        <p:spPr>
          <a:xfrm>
            <a:off x="3832200" y="4357800"/>
            <a:ext cx="5076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8"/>
          <p:cNvSpPr/>
          <p:nvPr/>
        </p:nvSpPr>
        <p:spPr>
          <a:xfrm flipH="1">
            <a:off x="2303280" y="4363920"/>
            <a:ext cx="2196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29"/>
          <p:cNvSpPr/>
          <p:nvPr/>
        </p:nvSpPr>
        <p:spPr>
          <a:xfrm flipV="1">
            <a:off x="4017960" y="3119400"/>
            <a:ext cx="11268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0"/>
          <p:cNvSpPr/>
          <p:nvPr/>
        </p:nvSpPr>
        <p:spPr>
          <a:xfrm>
            <a:off x="4091040" y="3138480"/>
            <a:ext cx="223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1"/>
          <p:cNvSpPr/>
          <p:nvPr/>
        </p:nvSpPr>
        <p:spPr>
          <a:xfrm flipH="1" flipV="1">
            <a:off x="3921120" y="3220920"/>
            <a:ext cx="619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2"/>
          <p:cNvSpPr/>
          <p:nvPr/>
        </p:nvSpPr>
        <p:spPr>
          <a:xfrm flipV="1">
            <a:off x="3876840" y="3188880"/>
            <a:ext cx="8388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3"/>
          <p:cNvSpPr/>
          <p:nvPr/>
        </p:nvSpPr>
        <p:spPr>
          <a:xfrm flipH="1" flipV="1">
            <a:off x="3931920" y="3112920"/>
            <a:ext cx="349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4"/>
          <p:cNvSpPr/>
          <p:nvPr/>
        </p:nvSpPr>
        <p:spPr>
          <a:xfrm flipH="1" flipV="1">
            <a:off x="3814920" y="3195720"/>
            <a:ext cx="619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5"/>
          <p:cNvSpPr/>
          <p:nvPr/>
        </p:nvSpPr>
        <p:spPr>
          <a:xfrm flipH="1">
            <a:off x="3792240" y="3798720"/>
            <a:ext cx="968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6"/>
          <p:cNvSpPr/>
          <p:nvPr/>
        </p:nvSpPr>
        <p:spPr>
          <a:xfrm flipH="1">
            <a:off x="3939840" y="3849840"/>
            <a:ext cx="442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7"/>
          <p:cNvSpPr/>
          <p:nvPr/>
        </p:nvSpPr>
        <p:spPr>
          <a:xfrm>
            <a:off x="3759120" y="3855960"/>
            <a:ext cx="619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8"/>
          <p:cNvSpPr/>
          <p:nvPr/>
        </p:nvSpPr>
        <p:spPr>
          <a:xfrm flipH="1">
            <a:off x="3690720" y="3855960"/>
            <a:ext cx="680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9"/>
          <p:cNvSpPr/>
          <p:nvPr/>
        </p:nvSpPr>
        <p:spPr>
          <a:xfrm flipH="1">
            <a:off x="3758760" y="3932280"/>
            <a:ext cx="5724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0"/>
          <p:cNvSpPr/>
          <p:nvPr/>
        </p:nvSpPr>
        <p:spPr>
          <a:xfrm>
            <a:off x="3894120" y="3951360"/>
            <a:ext cx="9036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1"/>
          <p:cNvSpPr/>
          <p:nvPr/>
        </p:nvSpPr>
        <p:spPr>
          <a:xfrm flipH="1">
            <a:off x="3854160" y="3951360"/>
            <a:ext cx="349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2"/>
          <p:cNvSpPr/>
          <p:nvPr/>
        </p:nvSpPr>
        <p:spPr>
          <a:xfrm flipH="1">
            <a:off x="3968640" y="4002120"/>
            <a:ext cx="15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3"/>
          <p:cNvSpPr/>
          <p:nvPr/>
        </p:nvSpPr>
        <p:spPr>
          <a:xfrm>
            <a:off x="6103080" y="2467080"/>
            <a:ext cx="183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опамински рецепт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44"/>
          <p:cNvSpPr/>
          <p:nvPr/>
        </p:nvSpPr>
        <p:spPr>
          <a:xfrm flipH="1">
            <a:off x="6641640" y="2716200"/>
            <a:ext cx="1033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5"/>
          <p:cNvSpPr/>
          <p:nvPr/>
        </p:nvSpPr>
        <p:spPr>
          <a:xfrm>
            <a:off x="4762080" y="4124160"/>
            <a:ext cx="155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ABA-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ецепт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46"/>
          <p:cNvSpPr/>
          <p:nvPr/>
        </p:nvSpPr>
        <p:spPr>
          <a:xfrm>
            <a:off x="4354560" y="381960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7"/>
          <p:cNvSpPr/>
          <p:nvPr/>
        </p:nvSpPr>
        <p:spPr>
          <a:xfrm>
            <a:off x="4967280" y="3808440"/>
            <a:ext cx="44604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48"/>
          <p:cNvSpPr/>
          <p:nvPr/>
        </p:nvSpPr>
        <p:spPr>
          <a:xfrm>
            <a:off x="3562560" y="5095800"/>
            <a:ext cx="983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nap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9"/>
          <p:cNvSpPr/>
          <p:nvPr/>
        </p:nvSpPr>
        <p:spPr>
          <a:xfrm flipH="1" flipV="1">
            <a:off x="3478320" y="5073120"/>
            <a:ext cx="17784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50"/>
          <p:cNvSpPr/>
          <p:nvPr/>
        </p:nvSpPr>
        <p:spPr>
          <a:xfrm flipV="1">
            <a:off x="3486240" y="4516200"/>
            <a:ext cx="14292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1"/>
          <p:cNvSpPr/>
          <p:nvPr/>
        </p:nvSpPr>
        <p:spPr>
          <a:xfrm flipV="1">
            <a:off x="4413240" y="5106960"/>
            <a:ext cx="1494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2"/>
          <p:cNvSpPr/>
          <p:nvPr/>
        </p:nvSpPr>
        <p:spPr>
          <a:xfrm flipH="1" flipV="1">
            <a:off x="4405320" y="4471920"/>
            <a:ext cx="14904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3"/>
          <p:cNvSpPr/>
          <p:nvPr/>
        </p:nvSpPr>
        <p:spPr>
          <a:xfrm>
            <a:off x="2321280" y="3476520"/>
            <a:ext cx="88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4"/>
          <p:cNvSpPr/>
          <p:nvPr/>
        </p:nvSpPr>
        <p:spPr>
          <a:xfrm>
            <a:off x="2379600" y="4421160"/>
            <a:ext cx="29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55"/>
          <p:cNvSpPr/>
          <p:nvPr/>
        </p:nvSpPr>
        <p:spPr>
          <a:xfrm flipV="1">
            <a:off x="2674800" y="3902040"/>
            <a:ext cx="1350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6"/>
          <p:cNvSpPr/>
          <p:nvPr/>
        </p:nvSpPr>
        <p:spPr>
          <a:xfrm>
            <a:off x="2651400" y="2460600"/>
            <a:ext cx="88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7"/>
          <p:cNvSpPr/>
          <p:nvPr/>
        </p:nvSpPr>
        <p:spPr>
          <a:xfrm>
            <a:off x="3252960" y="2906640"/>
            <a:ext cx="385560" cy="2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8"/>
          <p:cNvSpPr/>
          <p:nvPr/>
        </p:nvSpPr>
        <p:spPr>
          <a:xfrm>
            <a:off x="3641760" y="3184560"/>
            <a:ext cx="7452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59"/>
          <p:cNvSpPr/>
          <p:nvPr/>
        </p:nvSpPr>
        <p:spPr>
          <a:xfrm>
            <a:off x="3629160" y="4005360"/>
            <a:ext cx="69840" cy="75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260"/>
          <p:cNvSpPr/>
          <p:nvPr/>
        </p:nvSpPr>
        <p:spPr>
          <a:xfrm rot="21420000">
            <a:off x="3587760" y="3571560"/>
            <a:ext cx="106200" cy="198360"/>
          </a:xfrm>
          <a:custGeom>
            <a:avLst/>
            <a:gdLst>
              <a:gd name="textAreaLeft" fmla="*/ 0 w 106200"/>
              <a:gd name="textAreaRight" fmla="*/ 106560 w 1062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fill="none" w="21600" h="42777">
                <a:moveTo>
                  <a:pt x="2540" y="-1"/>
                </a:moveTo>
                <a:cubicBezTo>
                  <a:pt x="13410" y="1287"/>
                  <a:pt x="21600" y="10503"/>
                  <a:pt x="21600" y="21450"/>
                </a:cubicBezTo>
                <a:cubicBezTo>
                  <a:pt x="21600" y="32058"/>
                  <a:pt x="13896" y="41096"/>
                  <a:pt x="3422" y="42777"/>
                </a:cubicBezTo>
              </a:path>
              <a:path stroke="0" w="21600" h="42777">
                <a:moveTo>
                  <a:pt x="2540" y="-1"/>
                </a:moveTo>
                <a:cubicBezTo>
                  <a:pt x="13410" y="1287"/>
                  <a:pt x="21600" y="10503"/>
                  <a:pt x="21600" y="21450"/>
                </a:cubicBezTo>
                <a:cubicBezTo>
                  <a:pt x="21600" y="32058"/>
                  <a:pt x="13896" y="41096"/>
                  <a:pt x="3422" y="42777"/>
                </a:cubicBezTo>
                <a:lnTo>
                  <a:pt x="0" y="2145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261"/>
          <p:cNvSpPr/>
          <p:nvPr/>
        </p:nvSpPr>
        <p:spPr>
          <a:xfrm rot="4620000">
            <a:off x="2070000" y="4209840"/>
            <a:ext cx="104760" cy="168480"/>
          </a:xfrm>
          <a:custGeom>
            <a:avLst/>
            <a:gdLst>
              <a:gd name="textAreaLeft" fmla="*/ 0 w 104760"/>
              <a:gd name="textAreaRight" fmla="*/ 105120 w 10476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fill="none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</a:path>
              <a:path stroke="0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  <a:lnTo>
                  <a:pt x="329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62"/>
          <p:cNvSpPr/>
          <p:nvPr/>
        </p:nvSpPr>
        <p:spPr>
          <a:xfrm rot="6120000">
            <a:off x="2279520" y="4228920"/>
            <a:ext cx="104760" cy="168480"/>
          </a:xfrm>
          <a:custGeom>
            <a:avLst/>
            <a:gdLst>
              <a:gd name="textAreaLeft" fmla="*/ 0 w 104760"/>
              <a:gd name="textAreaRight" fmla="*/ 105120 w 10476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fill="none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</a:path>
              <a:path stroke="0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  <a:lnTo>
                  <a:pt x="329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63"/>
          <p:cNvSpPr/>
          <p:nvPr/>
        </p:nvSpPr>
        <p:spPr>
          <a:xfrm rot="840000">
            <a:off x="3587400" y="3324240"/>
            <a:ext cx="108000" cy="198360"/>
          </a:xfrm>
          <a:custGeom>
            <a:avLst/>
            <a:gdLst>
              <a:gd name="textAreaLeft" fmla="*/ 0 w 108000"/>
              <a:gd name="textAreaRight" fmla="*/ 108360 w 1080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fill="none" w="21600" h="42783">
                <a:moveTo>
                  <a:pt x="2524" y="-1"/>
                </a:moveTo>
                <a:cubicBezTo>
                  <a:pt x="13401" y="1279"/>
                  <a:pt x="21600" y="10499"/>
                  <a:pt x="21600" y="21452"/>
                </a:cubicBezTo>
                <a:cubicBezTo>
                  <a:pt x="21600" y="32068"/>
                  <a:pt x="13884" y="41111"/>
                  <a:pt x="3399" y="42782"/>
                </a:cubicBezTo>
              </a:path>
              <a:path stroke="0" w="21600" h="42783">
                <a:moveTo>
                  <a:pt x="2524" y="-1"/>
                </a:moveTo>
                <a:cubicBezTo>
                  <a:pt x="13401" y="1279"/>
                  <a:pt x="21600" y="10499"/>
                  <a:pt x="21600" y="21452"/>
                </a:cubicBezTo>
                <a:cubicBezTo>
                  <a:pt x="21600" y="32068"/>
                  <a:pt x="13884" y="41111"/>
                  <a:pt x="3399" y="42782"/>
                </a:cubicBezTo>
                <a:lnTo>
                  <a:pt x="0" y="21452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64"/>
          <p:cNvSpPr/>
          <p:nvPr/>
        </p:nvSpPr>
        <p:spPr>
          <a:xfrm rot="3060000">
            <a:off x="1895040" y="4311720"/>
            <a:ext cx="104760" cy="168120"/>
          </a:xfrm>
          <a:custGeom>
            <a:avLst/>
            <a:gdLst>
              <a:gd name="textAreaLeft" fmla="*/ 0 w 104760"/>
              <a:gd name="textAreaRight" fmla="*/ 105120 w 1047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fill="none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</a:path>
              <a:path stroke="0" w="21929" h="43200">
                <a:moveTo>
                  <a:pt x="-1" y="2"/>
                </a:moveTo>
                <a:cubicBezTo>
                  <a:pt x="109" y="0"/>
                  <a:pt x="219" y="-1"/>
                  <a:pt x="329" y="0"/>
                </a:cubicBezTo>
                <a:cubicBezTo>
                  <a:pt x="12258" y="0"/>
                  <a:pt x="21929" y="9670"/>
                  <a:pt x="21929" y="21600"/>
                </a:cubicBezTo>
                <a:cubicBezTo>
                  <a:pt x="21929" y="33529"/>
                  <a:pt x="12258" y="43199"/>
                  <a:pt x="329" y="43200"/>
                </a:cubicBezTo>
                <a:lnTo>
                  <a:pt x="329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265"/>
          <p:cNvSpPr/>
          <p:nvPr/>
        </p:nvSpPr>
        <p:spPr>
          <a:xfrm rot="9600000">
            <a:off x="3636360" y="4554000"/>
            <a:ext cx="168120" cy="10188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fill="none" w="43072" h="21600">
                <a:moveTo>
                  <a:pt x="43072" y="0"/>
                </a:moveTo>
                <a:cubicBezTo>
                  <a:pt x="43072" y="11929"/>
                  <a:pt x="33401" y="21600"/>
                  <a:pt x="21472" y="21600"/>
                </a:cubicBezTo>
                <a:cubicBezTo>
                  <a:pt x="10451" y="21600"/>
                  <a:pt x="1197" y="13303"/>
                  <a:pt x="-1" y="2348"/>
                </a:cubicBezTo>
              </a:path>
              <a:path stroke="0" w="43072" h="21600">
                <a:moveTo>
                  <a:pt x="43072" y="0"/>
                </a:moveTo>
                <a:cubicBezTo>
                  <a:pt x="43072" y="11929"/>
                  <a:pt x="33401" y="21600"/>
                  <a:pt x="21472" y="21600"/>
                </a:cubicBezTo>
                <a:cubicBezTo>
                  <a:pt x="10451" y="21600"/>
                  <a:pt x="1197" y="13303"/>
                  <a:pt x="-1" y="2348"/>
                </a:cubicBezTo>
                <a:lnTo>
                  <a:pt x="21472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266"/>
          <p:cNvSpPr/>
          <p:nvPr/>
        </p:nvSpPr>
        <p:spPr>
          <a:xfrm rot="9600000">
            <a:off x="3833640" y="4459320"/>
            <a:ext cx="169920" cy="101520"/>
          </a:xfrm>
          <a:custGeom>
            <a:avLst/>
            <a:gdLst>
              <a:gd name="textAreaLeft" fmla="*/ 0 w 169920"/>
              <a:gd name="textAreaRight" fmla="*/ 169920 w 169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fill="none" w="43072" h="21600">
                <a:moveTo>
                  <a:pt x="43072" y="0"/>
                </a:moveTo>
                <a:cubicBezTo>
                  <a:pt x="43072" y="11929"/>
                  <a:pt x="33401" y="21600"/>
                  <a:pt x="21472" y="21600"/>
                </a:cubicBezTo>
                <a:cubicBezTo>
                  <a:pt x="10451" y="21600"/>
                  <a:pt x="1197" y="13303"/>
                  <a:pt x="-1" y="2348"/>
                </a:cubicBezTo>
              </a:path>
              <a:path stroke="0" w="43072" h="21600">
                <a:moveTo>
                  <a:pt x="43072" y="0"/>
                </a:moveTo>
                <a:cubicBezTo>
                  <a:pt x="43072" y="11929"/>
                  <a:pt x="33401" y="21600"/>
                  <a:pt x="21472" y="21600"/>
                </a:cubicBezTo>
                <a:cubicBezTo>
                  <a:pt x="10451" y="21600"/>
                  <a:pt x="1197" y="13303"/>
                  <a:pt x="-1" y="2348"/>
                </a:cubicBezTo>
                <a:lnTo>
                  <a:pt x="21472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267"/>
          <p:cNvSpPr/>
          <p:nvPr/>
        </p:nvSpPr>
        <p:spPr>
          <a:xfrm rot="12900000">
            <a:off x="4076280" y="4420800"/>
            <a:ext cx="171360" cy="101520"/>
          </a:xfrm>
          <a:custGeom>
            <a:avLst/>
            <a:gdLst>
              <a:gd name="textAreaLeft" fmla="*/ 0 w 171360"/>
              <a:gd name="textAreaRight" fmla="*/ 171360 w 171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fill="none" w="43074" h="21600">
                <a:moveTo>
                  <a:pt x="43074" y="0"/>
                </a:moveTo>
                <a:cubicBezTo>
                  <a:pt x="43074" y="11929"/>
                  <a:pt x="33403" y="21600"/>
                  <a:pt x="21474" y="21600"/>
                </a:cubicBezTo>
                <a:cubicBezTo>
                  <a:pt x="10446" y="21600"/>
                  <a:pt x="1189" y="13292"/>
                  <a:pt x="-1" y="2329"/>
                </a:cubicBezTo>
              </a:path>
              <a:path stroke="0" w="43074" h="21600">
                <a:moveTo>
                  <a:pt x="43074" y="0"/>
                </a:moveTo>
                <a:cubicBezTo>
                  <a:pt x="43074" y="11929"/>
                  <a:pt x="33403" y="21600"/>
                  <a:pt x="21474" y="21600"/>
                </a:cubicBezTo>
                <a:cubicBezTo>
                  <a:pt x="10446" y="21600"/>
                  <a:pt x="1189" y="13292"/>
                  <a:pt x="-1" y="2329"/>
                </a:cubicBezTo>
                <a:lnTo>
                  <a:pt x="21474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68"/>
          <p:cNvSpPr/>
          <p:nvPr/>
        </p:nvSpPr>
        <p:spPr>
          <a:xfrm rot="12900000">
            <a:off x="4246200" y="4522320"/>
            <a:ext cx="169920" cy="101880"/>
          </a:xfrm>
          <a:custGeom>
            <a:avLst/>
            <a:gdLst>
              <a:gd name="textAreaLeft" fmla="*/ 0 w 169920"/>
              <a:gd name="textAreaRight" fmla="*/ 170280 w 1699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fill="none" w="43074" h="21600">
                <a:moveTo>
                  <a:pt x="43074" y="0"/>
                </a:moveTo>
                <a:cubicBezTo>
                  <a:pt x="43074" y="11929"/>
                  <a:pt x="33403" y="21600"/>
                  <a:pt x="21474" y="21600"/>
                </a:cubicBezTo>
                <a:cubicBezTo>
                  <a:pt x="10446" y="21600"/>
                  <a:pt x="1189" y="13292"/>
                  <a:pt x="-1" y="2329"/>
                </a:cubicBezTo>
              </a:path>
              <a:path stroke="0" w="43074" h="21600">
                <a:moveTo>
                  <a:pt x="43074" y="0"/>
                </a:moveTo>
                <a:cubicBezTo>
                  <a:pt x="43074" y="11929"/>
                  <a:pt x="33403" y="21600"/>
                  <a:pt x="21474" y="21600"/>
                </a:cubicBezTo>
                <a:cubicBezTo>
                  <a:pt x="10446" y="21600"/>
                  <a:pt x="1189" y="13292"/>
                  <a:pt x="-1" y="2329"/>
                </a:cubicBezTo>
                <a:lnTo>
                  <a:pt x="21474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69"/>
          <p:cNvSpPr/>
          <p:nvPr/>
        </p:nvSpPr>
        <p:spPr>
          <a:xfrm>
            <a:off x="3129120" y="1511280"/>
            <a:ext cx="35856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фармаколо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цилит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нсмис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дат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ксиолит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тиненциј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фармаколо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и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зокортиколимбич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авајућ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гра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птид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птид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авају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гр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вер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п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уд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рмаколо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рмакодинам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рш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урофармаколо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фармаколо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MDA, 5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NMD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утамат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ок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NMD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ост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датив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нот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адапт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д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ротонин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адапт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вер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ормо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е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рофармакологија: закључ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митер / Рецеп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уфорија / задовољ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амин, Опио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сиолиза / атаxи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ација / амне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A +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ч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HT</a:t>
                      </a:r>
                      <a:r>
                        <a:rPr b="0" i="1" lang="sr-R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роадап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DA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стин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A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DA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сихофармаколош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гућ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сулфи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лт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цампрос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ензодиазеп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рмакокине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п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сорп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ар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уодену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орп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кстрем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аријабил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е конзумир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ум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жњ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елуц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астричког метабол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патичког првог прол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уп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од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лес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ституциј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8% се метаболише у јет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турација алкохол-дехидрогеназе од ниске до умерене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chael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nt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ова кинети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ртна позиција на скали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ина елиминације алкохола = 7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1 с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ина елиминације = 0,015% за 1 с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68200" y="5011560"/>
            <a:ext cx="8453520" cy="813600"/>
            <a:chOff x="268200" y="5011560"/>
            <a:chExt cx="8453520" cy="813600"/>
          </a:xfrm>
        </p:grpSpPr>
        <p:sp>
          <p:nvSpPr>
            <p:cNvPr id="62" name="Text Box 2054"/>
            <p:cNvSpPr/>
            <p:nvPr/>
          </p:nvSpPr>
          <p:spPr>
            <a:xfrm>
              <a:off x="1406520" y="5011560"/>
              <a:ext cx="2196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лкохол-дехидроген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55"/>
            <p:cNvSpPr/>
            <p:nvPr/>
          </p:nvSpPr>
          <p:spPr>
            <a:xfrm>
              <a:off x="5409720" y="5011560"/>
              <a:ext cx="2196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лдехид-дехидроген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6"/>
            <p:cNvCxnSpPr/>
            <p:nvPr/>
          </p:nvCxnSpPr>
          <p:spPr>
            <a:xfrm>
              <a:off x="5342760" y="5441760"/>
              <a:ext cx="25207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Straight Arrow Connector 7"/>
            <p:cNvCxnSpPr/>
            <p:nvPr/>
          </p:nvCxnSpPr>
          <p:spPr>
            <a:xfrm>
              <a:off x="1303560" y="5441760"/>
              <a:ext cx="25207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66" name="Text Box 2054"/>
            <p:cNvSpPr/>
            <p:nvPr/>
          </p:nvSpPr>
          <p:spPr>
            <a:xfrm>
              <a:off x="268200" y="5244480"/>
              <a:ext cx="104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лкох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54"/>
            <p:cNvSpPr/>
            <p:nvPr/>
          </p:nvSpPr>
          <p:spPr>
            <a:xfrm>
              <a:off x="3818520" y="524448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цеталдех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054"/>
            <p:cNvSpPr/>
            <p:nvPr/>
          </p:nvSpPr>
          <p:spPr>
            <a:xfrm>
              <a:off x="7785720" y="523116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це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дех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хидрогеназ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з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лимин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умул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цеталдех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ез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авобољ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астритис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учни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тоглавиц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мурлу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хиби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дех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хидрогена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сулфира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8200" y="5011560"/>
            <a:ext cx="8453520" cy="813600"/>
            <a:chOff x="268200" y="5011560"/>
            <a:chExt cx="8453520" cy="813600"/>
          </a:xfrm>
        </p:grpSpPr>
        <p:sp>
          <p:nvSpPr>
            <p:cNvPr id="72" name="Text Box 2054"/>
            <p:cNvSpPr/>
            <p:nvPr/>
          </p:nvSpPr>
          <p:spPr>
            <a:xfrm>
              <a:off x="1406520" y="5011560"/>
              <a:ext cx="2196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лкохол-дехидроген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55"/>
            <p:cNvSpPr/>
            <p:nvPr/>
          </p:nvSpPr>
          <p:spPr>
            <a:xfrm>
              <a:off x="5409720" y="5011560"/>
              <a:ext cx="2196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лдехид-дехидроген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Straight Arrow Connector 6"/>
            <p:cNvCxnSpPr/>
            <p:nvPr/>
          </p:nvCxnSpPr>
          <p:spPr>
            <a:xfrm>
              <a:off x="5342760" y="5441760"/>
              <a:ext cx="25207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Straight Arrow Connector 7"/>
            <p:cNvCxnSpPr/>
            <p:nvPr/>
          </p:nvCxnSpPr>
          <p:spPr>
            <a:xfrm>
              <a:off x="1303560" y="5441760"/>
              <a:ext cx="25207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76" name="Text Box 2054"/>
            <p:cNvSpPr/>
            <p:nvPr/>
          </p:nvSpPr>
          <p:spPr>
            <a:xfrm>
              <a:off x="268200" y="5244480"/>
              <a:ext cx="104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лкох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054"/>
            <p:cNvSpPr/>
            <p:nvPr/>
          </p:nvSpPr>
          <p:spPr>
            <a:xfrm>
              <a:off x="3818520" y="524448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цеталдех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054"/>
            <p:cNvSpPr/>
            <p:nvPr/>
          </p:nvSpPr>
          <p:spPr>
            <a:xfrm>
              <a:off x="7785720" y="523116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це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енетск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ријаци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зи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болисањ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хидрогена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морфиза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ус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фр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мерикана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*3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с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4724280"/>
          <a:ext cx="8229600" cy="1482840"/>
        </p:xfrm>
        <a:graphic>
          <a:graphicData uri="http://schemas.openxmlformats.org/drawingml/2006/table">
            <a:tbl>
              <a:tblPr/>
              <a:tblGrid>
                <a:gridCol w="2590920"/>
                <a:gridCol w="1143000"/>
                <a:gridCol w="1143000"/>
                <a:gridCol w="1143000"/>
                <a:gridCol w="114300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2*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2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3*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3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гло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ерикан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фро-американ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зијско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енетск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ријаци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зи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болисањ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дехид-дехидрогеназа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D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морфизам на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D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г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 Азијаца има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*2 ал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на елиминација ацеталдехида (и алкохо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рвењење лица-као одгов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рмакокине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о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од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орпц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астричн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лу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есн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ђ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упн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B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бол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нстру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циклу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рмакокинети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ксуал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ормо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рмакокинети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1:36:49Z</dcterms:created>
  <dc:creator>XP</dc:creator>
  <dc:description/>
  <dc:language>en-US</dc:language>
  <cp:lastModifiedBy>Slobodan Novokmet</cp:lastModifiedBy>
  <dcterms:modified xsi:type="dcterms:W3CDTF">2014-01-31T11:24:42Z</dcterms:modified>
  <cp:revision>38</cp:revision>
  <dc:subject/>
  <dc:title>VI_nedelja_nastave_I12_Seminar.ppt</dc:title>
</cp:coreProperties>
</file>