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D579-BC1A-45C9-8A5F-99DD5AFD5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7907-D52C-4599-8DB2-8F78BB3F8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BB3-9669-4CB7-8745-E46750F5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88E-7A2C-40B8-BC31-AF292894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938-462F-478E-858C-672F2659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3E3-C5A5-4173-BC7A-8C429B65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FC12-1362-4A5D-8DF0-159F82C2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CD9-D538-4F50-9D54-BC84F0E1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54D-E57C-4B1C-9E1C-B7EA0D10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BCA-DD8D-48F0-8499-A8A4EDCE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A8E-A6B3-4B81-A503-9EF54680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DF7-F481-476D-9B3F-608BB3BB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A9B-552E-48C6-9387-DFBB4CC9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FEF-0E20-43B3-B3A7-D7DBEF81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80FD-BFE0-4629-87E3-B012088857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610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ма недеља наст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457200" y="228600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11111"/>
                </a:solidFill>
                <a:latin typeface="Arial"/>
              </a:rPr>
              <a:t>И12 -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ЛОУПОТРЕБА И ЗАВИСНОСТ ОД ЛЕКОВА И ПА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944640" y="380880"/>
            <a:ext cx="7407360" cy="1357560"/>
          </a:xfrm>
          <a:prstGeom prst="rect">
            <a:avLst/>
          </a:prstGeom>
          <a:ln w="0">
            <a:noFill/>
          </a:ln>
        </p:spPr>
      </p:pic>
      <p:sp>
        <p:nvSpPr>
          <p:cNvPr id="51" name="Subtitle 2"/>
          <p:cNvSpPr/>
          <p:nvPr/>
        </p:nvSpPr>
        <p:spPr>
          <a:xfrm>
            <a:off x="457200" y="3886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кохол као др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фикасне мере друштва у редукцији употребе алкох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рола снабдевања кроз порез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имитирано радно време објеката за продају алкохола уз посебне дозволе за ра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имитирана продаја алкохола млади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стирања даха на алкохол у саобраћају и на радном мест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нос према алкох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мена односа према алкохолу у друштв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ра да буде последица одважног раскида са традиционалним начином размишља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ило шта да поставимо у средиште свог живо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ао, пријатеље, породицу, себе саме - УМЕСТО АЛКОХОЛА - то ће се одразити на наше виђење света: уверења, ставове, понаша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зумирање алкохола на плане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тар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т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но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6454440"/>
            <a:ext cx="548640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hmet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anc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73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23-3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пидемиологија алкохо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кохол је пети фактор ризика за обољевање и онеспособљеност у свету-према истраживањима Светске здравствене организа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ице злоупотребе алкохола могу се јавити у различитим културама,социјалним класним или старосним груп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раживања показују да 15% одрасле популације-пије свакодневно- у најмању руку алкохол у хазардерски опасним количинама-то је око 55 милиона Европљ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пидемиологија алкохо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 20 милиона Европљана пије на штетан начин (то је: више од 40гр за жене и више од 60гр за мушкарце)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 118 милиона Европљана се опије „да има прекид филма“ најмање једанпут месечно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 5% одраслих мушкараца и око 1% жена су зависници од алкохола,а то чини 23 милиона Европљ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кохол у нашој савременој култу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008000"/>
            <a:ext cx="822960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цењивање опасности од алкохола (насупрот фокуса на оштећење здравља због дувана и/или илегалних дрог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ак и тешко опијање у посебним приликама сматра се нормалним и прихватљив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аст броја одраслих и деце која конзумирају алкохо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нејџери конзумирају алкохол много чешће него остале илегалне дроге (или комбинују више супстанци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о је директно повезано са саобраћај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срећам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убиствим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биствима (три водећа узрока смрти тинејџера) и непланираним трудноћ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гирање потребе за лече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н број могућности лечења (неприлагођени програми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ромна фармакотерапијска понуд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оцијална штетност алкох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леда се у повеза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ђу конзумације алкохола и кримина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и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миц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тарпородично наси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лостављање де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реде на радном мес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и у саобраћ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2809440"/>
            <a:ext cx="403848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шке саобраћајне несреће са фаталним исх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продуктивна токсич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иц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уропсихијатријска ст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матске последице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лкохолизам као болест зави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3520" y="1143000"/>
          <a:ext cx="8229600" cy="52419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87440">
                <a:tc>
                  <a:txBody>
                    <a:bodyPr lIns="72720" rIns="72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кохолизам је хронична и прогредијентна болест чији се развој састоји из две фазе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720" marR="7272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2720" rIns="72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.Претоксикоманска фаз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значена је са два феномен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720" marR="7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72720" rIns="72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овишеном толеранцијом - која се манифестује кроз употребу све веће количине алкохола без знакова манифестног пијанства. Јавља се обично после вишемесечног или вишегодишњег пијења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72720" rIns="72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соба из неког психолошког разлога користи алкохол најчешће ради ублажавања напетости, страха, неизвесности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72720" rIns="72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.Токсикоманска фаза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лежена је феноменима као што с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72720" rIns="72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губитак контроле - особа пије до опија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72720" rIns="72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лкохолне амнезије - може бити потпуна или делимична, не сећа се догађања у периоду пијан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880">
                <a:tc>
                  <a:txBody>
                    <a:bodyPr lIns="72720" rIns="72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емогућност апстиненције - то је критична фаза позната као "феномен прве чаше". Један број алкохоличара пије по систему доливања што омогућава континуитет одржавања алкохолемије у крви како би могли да функционишу, јер у противном наступа апстиненцијална криза (акутни психооргански синдром 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6920">
                <a:tc>
                  <a:txBody>
                    <a:bodyPr lIns="72720" rIns="72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ад толеранције (хронична фаза ) - настаје у завршној фази болести нпр. особа која је дневно конзумирала 1 литар жестоког пића често не може да попије више од једне до две чаш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дицинске последице злоупотребе алкох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9370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9000">
                <a:tc>
                  <a:txBody>
                    <a:bodyPr lIns="74520" rIns="74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кохолна болест јетре - најчешћа соматска компликација алкохолизма испољава се као масна јетра, алкохолни хепатитис и на крају, као цироз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520" marR="74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74520" rIns="74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стро-интестинални поремећаји - гастритис/гастричне ерозије са последичном хематемезом, глоситис, гастро-езофагеални рефлу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520" marR="74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4520" rIns="74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плазија задње трећине езофагуса (Баретова езофагиј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520" marR="74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4520" rIns="74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птички улк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520" marR="74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4520" rIns="74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а дијаре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520" marR="74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4520" rIns="74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тни и хронични панкреат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520" marR="74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4520" rIns="74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цер-хепатоцелуларни, езофагеални, абдоминалн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520" marR="74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74520" rIns="74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диоваскуларне сметње - хипертензија, тахиаритмија, кардиомиопатија, кардиачне аритмије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520" marR="74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74520" rIns="74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и-бери- попуштање срца са едемима (влажни бери-бери) или неуропатија (суви бери-бери) повезан са дефицитом тиам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520" marR="74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4520" rIns="74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емиа,макроцитоза, тромбоцитопен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520" marR="74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4520" rIns="74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тна миопатија, акутна рабдомиолиза, хронична миопатија, остеопор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520" marR="74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4520" rIns="74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ираторна обољења-ТБЦ, пнеумони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520" marR="74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74520" rIns="74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ролошке компликације-Wерницке-Корсакофф синдром, периферна неуропатија, централна понтна мијелинолиза, церебеларна дегенер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520" marR="74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раци у третману алкохо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71640"/>
            <a:ext cx="8229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сање и едук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цијент мора да дође до тачке прихватања неопходности да престане да п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рмакотерап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терап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ман медицинских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ијатријских и социјалних послед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ршка породице и пријате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инуирано лечење и праћење/групе за подрш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е промене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мене стила живота и окол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21:13:46Z</dcterms:created>
  <dc:creator>Minja</dc:creator>
  <dc:description/>
  <dc:language>en-US</dc:language>
  <cp:lastModifiedBy>Slobodan Novokmet</cp:lastModifiedBy>
  <dcterms:modified xsi:type="dcterms:W3CDTF">2014-01-31T12:18:44Z</dcterms:modified>
  <cp:revision>31</cp:revision>
  <dc:subject/>
  <dc:title>Slide 1</dc:title>
</cp:coreProperties>
</file>